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4.jpeg" ContentType="image/jpeg"/>
  <Override PartName="/ppt/media/image8.png" ContentType="image/png"/>
  <Override PartName="/ppt/media/image33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48960" cy="124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564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14776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680" y="4680"/>
            <a:ext cx="11788920" cy="133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-14219280" y="-11796840"/>
            <a:ext cx="16594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92680" y="928368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BC4CD-FA26-411D-A607-4CC2799DB31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89093-13D7-4920-BBCF-D866A0C350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4440" y="733320"/>
            <a:ext cx="45817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80C7-9281-4AB6-AE02-20B4445C65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EB481-0CEE-4373-9344-C689CF6147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0" y="4680"/>
            <a:ext cx="11763360" cy="12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11798280" y="-11796840"/>
            <a:ext cx="11752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-11798280" y="-11796840"/>
            <a:ext cx="11752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-11798280" y="-11796840"/>
            <a:ext cx="11752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280A-1231-4D82-A125-8EB6681DA8A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92160" y="733320"/>
            <a:ext cx="48862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680" y="4680"/>
            <a:ext cx="17749800" cy="133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680" y="4680"/>
            <a:ext cx="17749800" cy="133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680" y="4680"/>
            <a:ext cx="17749800" cy="133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7240" y="4642920"/>
            <a:ext cx="545328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3403-9127-4E72-9870-915747B6E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8554-A147-4583-AA72-9BE1DE5E4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6314-0568-40E8-91DC-F741A8CD5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D51F-B185-4408-A931-1293860AA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D1BF-FFA9-49EA-AFD9-469700DA5C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CAB8-2E98-4252-A333-E9FA8E00E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B901-D5DE-4AA3-984A-F61F90565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B3DF-00F2-413D-BB4C-43C056AAE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71A4-B9BA-4DCC-91AC-D1D0D3439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FF40-CFE2-423D-BADF-55D971384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13B1-2AB9-44CD-8AED-1E944FB12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A522-C41F-45F0-BFC3-9A91EC864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8F9F-3154-4387-9A11-252BF32B4A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2681-C8A9-4A0F-A2CA-D459E51AB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DD5D-E70D-460D-8F0F-C36B5736A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1512-C65F-4171-ABFE-2CEB7923F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D6F8-2332-4C5E-99F1-3E16B93E3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C82-314D-4553-9F02-A9AE00AA42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121-90AE-4F73-9FBF-ADDCDC0AFC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2A5-0273-4208-A506-FCFE4CA845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6A0-B530-4C8C-8D55-D35C30711A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F87-C349-4051-B485-D49898F46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9C3F-1665-4B0C-B330-669C6AC772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68B-A3FC-4BD3-BEF7-FD3DAC5162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2AD-3E79-4441-8576-78967B1EAC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301-8F28-4297-9121-B2F2EC09BF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21C-5C78-4180-AAFE-577416B16E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9F7-D0CC-4EFF-BFCA-A000AD43DB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767-A9D9-4FBB-AA02-5E36B8D88B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121-EE66-4B77-A04C-D6DF838B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9C1B-F4BE-4F73-9CD1-8E1F366D0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9779-DB1C-46A0-8682-FEC7696AB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AC12-BC31-4FBD-8869-26F3066D3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9BAC-93EE-4C3F-91F6-3C3AC3787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3A7E-A7E5-42BA-A351-D68DD5F0B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E4B8-02A5-4C0B-AE34-ACB815F80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09088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10034-1AE6-43E0-B74A-D21E07ED7B7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3480"/>
            <a:ext cx="18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348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543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755211-05D2-4B65-A658-B5781C87144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05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24672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7320" y="6246720"/>
            <a:ext cx="28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06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12DD66-DE5B-4217-87D6-4BAE5ABC87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png"/><Relationship Id="rId3" Type="http://schemas.openxmlformats.org/officeDocument/2006/relationships/slide" Target="slide17.xml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" Target="slide19.xml"/><Relationship Id="rId7" Type="http://schemas.openxmlformats.org/officeDocument/2006/relationships/image" Target="../media/image25.png"/><Relationship Id="rId8" Type="http://schemas.openxmlformats.org/officeDocument/2006/relationships/slide" Target="slide21.xml"/><Relationship Id="rId9" Type="http://schemas.openxmlformats.org/officeDocument/2006/relationships/image" Target="../media/image26.png"/><Relationship Id="rId10" Type="http://schemas.openxmlformats.org/officeDocument/2006/relationships/slide" Target="slide20.xml"/><Relationship Id="rId11" Type="http://schemas.openxmlformats.org/officeDocument/2006/relationships/image" Target="../media/image27.png"/><Relationship Id="rId12" Type="http://schemas.openxmlformats.org/officeDocument/2006/relationships/slide" Target="slide22.xml"/><Relationship Id="rId13" Type="http://schemas.openxmlformats.org/officeDocument/2006/relationships/image" Target="../media/image28.png"/><Relationship Id="rId14" Type="http://schemas.openxmlformats.org/officeDocument/2006/relationships/slide" Target="slide11.xml"/><Relationship Id="rId15" Type="http://schemas.openxmlformats.org/officeDocument/2006/relationships/image" Target="../media/image29.png"/><Relationship Id="rId16" Type="http://schemas.openxmlformats.org/officeDocument/2006/relationships/slide" Target="slide19.xml"/><Relationship Id="rId17" Type="http://schemas.openxmlformats.org/officeDocument/2006/relationships/image" Target="../media/image30.png"/><Relationship Id="rId18" Type="http://schemas.openxmlformats.org/officeDocument/2006/relationships/image" Target="../media/image3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mailto:haroldo.oliveira@mma.gov.br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wmf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004840"/>
            <a:ext cx="82090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gregação de Valor e Consolidação de Mercados Susten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Ag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Social e Combate à F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hia Nacional de Abastecimento - CO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0360" y="1979640"/>
            <a:ext cx="86392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2781360"/>
            <a:ext cx="7056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30636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dução e Extrativismo Susten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6360" indent="-30636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s Industr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6360" indent="-30636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ercado Institucional e Diferen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6360" indent="-30636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ção Social e Produ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6360" indent="-30636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erviços da Sociobiodivers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019240"/>
            <a:ext cx="7632720" cy="407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413000"/>
            <a:ext cx="532764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ixos do Pla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26920" y="2638440"/>
            <a:ext cx="76438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esquisa, Desenvolvimento Tecnológico e In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ssistência Técnica e Extensão R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pa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édito, Fomento e Incentivos Fis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vulgação e Comun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rco Regula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2800" y="2019240"/>
            <a:ext cx="7704000" cy="407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341360"/>
            <a:ext cx="532764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Linhas de 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5840" y="156060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9360" y="2230560"/>
            <a:ext cx="695520" cy="573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8205840" y="350532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5840" y="4194000"/>
            <a:ext cx="689040" cy="51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05840" y="481644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05840" y="5479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205840" y="2859120"/>
            <a:ext cx="689040" cy="579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364000" y="1328760"/>
            <a:ext cx="622440" cy="585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364000" y="1968480"/>
            <a:ext cx="609840" cy="585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6840" y="2254320"/>
            <a:ext cx="129528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iro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8"/>
          <a:stretch/>
        </p:blipFill>
        <p:spPr>
          <a:xfrm>
            <a:off x="8248680" y="6175440"/>
            <a:ext cx="587520" cy="587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38920" y="165096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ç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2160" y="2897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ac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2160" y="3557520"/>
            <a:ext cx="129528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2160" y="42116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aú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920" y="4886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a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37480" y="557532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46840" y="61880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03560" y="2016000"/>
            <a:ext cx="129564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ta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1365120"/>
            <a:ext cx="129564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baç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08280" y="1700280"/>
            <a:ext cx="158436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 cará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4621320"/>
            <a:ext cx="158400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errito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3680" y="2852640"/>
            <a:ext cx="1297080" cy="151308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e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490760" y="2130120"/>
            <a:ext cx="344520" cy="14461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90760" y="3646440"/>
            <a:ext cx="360360" cy="1150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397320" y="1844640"/>
            <a:ext cx="3463920" cy="3240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70040" y="2527200"/>
            <a:ext cx="3390840" cy="2519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35120" y="3213000"/>
            <a:ext cx="3390840" cy="18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16040" y="3789360"/>
            <a:ext cx="3390840" cy="1295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416400" y="5081760"/>
            <a:ext cx="3463920" cy="1374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435120" y="5081400"/>
            <a:ext cx="3390840" cy="7268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416040" y="5081760"/>
            <a:ext cx="3390840" cy="792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16040" y="4437000"/>
            <a:ext cx="3390840" cy="647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2060640"/>
            <a:ext cx="64764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419640" y="1554120"/>
            <a:ext cx="576000" cy="509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316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íveis de Cooperação para a Gestão do PNP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86120" y="5357880"/>
            <a:ext cx="2357640" cy="1357200"/>
          </a:xfrm>
          <a:prstGeom prst="ellips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rtale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a organ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du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14760" y="1500120"/>
            <a:ext cx="1071360" cy="430200"/>
          </a:xfrm>
          <a:prstGeom prst="leftRightArrow">
            <a:avLst>
              <a:gd name="adj1" fmla="val 50000"/>
              <a:gd name="adj2" fmla="val 70272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14760" y="3714840"/>
            <a:ext cx="1000080" cy="430200"/>
          </a:xfrm>
          <a:prstGeom prst="leftRightArrow">
            <a:avLst>
              <a:gd name="adj1" fmla="val 50000"/>
              <a:gd name="adj2" fmla="val 7027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M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14760" y="5786280"/>
            <a:ext cx="1071360" cy="500400"/>
          </a:xfrm>
          <a:prstGeom prst="leftRightArrow">
            <a:avLst>
              <a:gd name="adj1" fmla="val 50000"/>
              <a:gd name="adj2" fmla="val 7021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86120" y="3214800"/>
            <a:ext cx="2286000" cy="1500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rtalecim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titu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dei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s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70280" y="1062000"/>
            <a:ext cx="2230560" cy="1438200"/>
          </a:xfrm>
          <a:prstGeom prst="ellipse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olíticas setoria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deias N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104940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00840" y="1515960"/>
            <a:ext cx="121428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5715000"/>
            <a:ext cx="114300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15120" y="1071720"/>
            <a:ext cx="1928880" cy="1214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29680" y="1000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72120" y="3714840"/>
            <a:ext cx="114300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67440" y="3571920"/>
            <a:ext cx="1944720" cy="110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âmara Comissão Consel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11880" y="5500800"/>
            <a:ext cx="1857600" cy="9284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Ts locais/AP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2920" y="1214280"/>
            <a:ext cx="1928880" cy="8575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valiação e Monitor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920" y="550080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2920" y="407196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valiação e Monitoramento Governanç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920" y="257184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drões, Gestão, Diálo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45200" y="1143000"/>
            <a:ext cx="1928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ordenação G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âmara 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2216160" y="846000"/>
            <a:ext cx="433440" cy="5716800"/>
          </a:xfrm>
          <a:prstGeom prst="upDownArrow">
            <a:avLst>
              <a:gd name="adj1" fmla="val 50000"/>
              <a:gd name="adj2" fmla="val 228371"/>
            </a:avLst>
          </a:prstGeom>
          <a:solidFill>
            <a:srgbClr val="c3d69b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tic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86200" y="2571840"/>
            <a:ext cx="285840" cy="500040"/>
          </a:xfrm>
          <a:prstGeom prst="upDownArrow">
            <a:avLst>
              <a:gd name="adj1" fmla="val 50000"/>
              <a:gd name="adj2" fmla="val 49978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6200" y="4786200"/>
            <a:ext cx="285840" cy="571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0360" y="1440000"/>
            <a:ext cx="845964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S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operacionais/delib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upo de Coordenação do Plano Nacion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DA, MDS, MMA e CON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consul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 Nacional da Sociobiodivers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Ts castanha do Brasil e Babaçu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s estaduais, GTs, APLs, ou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539640" y="6300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1628640"/>
            <a:ext cx="4103640" cy="2232000"/>
          </a:xfrm>
          <a:prstGeom prst="flowChartPunchedCard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esso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rc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571280" y="1628640"/>
            <a:ext cx="4103640" cy="2232000"/>
          </a:xfrm>
          <a:prstGeom prst="flowChartPunchedCard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envolv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 C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68360" y="3859200"/>
            <a:ext cx="4103640" cy="2232000"/>
          </a:xfrm>
          <a:prstGeom prst="flowChartPunchedCard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firm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dentitária de P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571280" y="3859200"/>
            <a:ext cx="4103640" cy="2232000"/>
          </a:xfrm>
          <a:prstGeom prst="flowChartPunchedCard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nfra-estru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deq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3348000"/>
            <a:ext cx="2448000" cy="1089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saf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 rot="2520000">
            <a:off x="5222880" y="4654440"/>
            <a:ext cx="934920" cy="935280"/>
          </a:xfrm>
          <a:prstGeom prst="downArrow">
            <a:avLst>
              <a:gd name="adj1" fmla="val 50000"/>
              <a:gd name="adj2" fmla="val 2501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600" y="1541520"/>
            <a:ext cx="4284720" cy="3206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nstitu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GPM, PAA, PN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governo está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rovidenciando u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stratégia articulada para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inclusão de PCTAF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87680" y="4770360"/>
            <a:ext cx="1890720" cy="19162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900000">
            <a:off x="2697120" y="4627080"/>
            <a:ext cx="934920" cy="935280"/>
          </a:xfrm>
          <a:prstGeom prst="downArrow">
            <a:avLst>
              <a:gd name="adj1" fmla="val 50000"/>
              <a:gd name="adj2" fmla="val 2501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2960" y="1512720"/>
            <a:ext cx="4284720" cy="3206880"/>
          </a:xfrm>
          <a:prstGeom prst="roundRect">
            <a:avLst>
              <a:gd name="adj" fmla="val 16667"/>
            </a:avLst>
          </a:prstGeom>
          <a:solidFill>
            <a:srgbClr val="9966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Diferenc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É necessário que o se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mpresarial se faça pres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as mesas de diálogo em to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o PNPSB para estabelecer 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com os PCTAFs 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ritérios orientadores 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lações comerciais 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mb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41200" y="1332000"/>
            <a:ext cx="854244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DIÁLOGO COM SETOR EMPRESARI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OBJETIVO: Promover um ambiente favorável de diálogo entre os atores das cadeias da sociobiodiversidade visando negócios sustentáve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Meta 1 -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riar uma identidade para os produtos da sociobiodiversidade (marca/selo)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Ativ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1 - Proposta inicial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3 - Workshop de apresentação, discussão e validação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10/05/10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4 - Proposta fi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5 - Lançamento (junho – Feira  Agri. Fam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97000" y="614520"/>
            <a:ext cx="884700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Meta 2 -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nstrução e implementação do sistema de inform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Ativ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1 – Levantamento de informações dos produtos da sociobiodiversidade: compradores e fornecedores (out/10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2 - Construção da Praça da Sociobiodiversidade para as feiras (FANAFRA, Exposustentat)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3 - Dois encontros do fórum empresarial e 2 informativ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4 – Estabelecer parâmetros para viabilizar as Parcerias com Setor Empresarial  (PSE) para fortalecer as relações pública-privad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5 – Integrar\apoiar agenda do MDA com Mtu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796840" y="7361280"/>
            <a:ext cx="845964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A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laudia M. Cal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retora de Extrativ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retaria de Extrativismo e Desenvolvimento Rural Sustentáv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Verdana"/>
              </a:rPr>
              <a:t>claudia-maria.calorio@mma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Roman"/>
              </a:rPr>
              <a:t>Cona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60360" y="6119640"/>
            <a:ext cx="8388360" cy="5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379520"/>
            <a:ext cx="817884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aroldo Olive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écnico Resp. Diálogo com o Setor 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aroldo.oliveira@mma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Verdana"/>
              </a:rPr>
              <a:t>(61) 2028-15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1700280"/>
            <a:ext cx="87138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omia Produtos Extrativistas  (IBGE - 2008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137520" cy="1481040"/>
            <a:chOff x="0" y="0"/>
            <a:chExt cx="9137520" cy="14810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232760" y="23760"/>
              <a:ext cx="190476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90512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3730680" y="0"/>
              <a:ext cx="197964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5708520" y="0"/>
              <a:ext cx="2208240" cy="14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7078680" y="9240840"/>
            <a:ext cx="85694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dução primária florest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– U$ 12,6 b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69,28% - silvicultura (florestas plantadas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0,72% - extrativismo vege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dução extrativista veget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– U$ 3,8 bilhõ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83,69% - Produtos madeireir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6,31% - Produtos não-madeireiros (5%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dução extrativista vegetal não- madeireira - Gera R$ 635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546280"/>
            <a:ext cx="8569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primária flores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– U$ 12,6 bilh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9,28% - silvicultura (florestas plantadas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0,72% - extrativismo vege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extrativista vege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– U$ 3,8 bilhõ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83,69% - Produtos madeireir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6,31% - Produtos não-madeireiros (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extrativista vegetal não-madeireira 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$ 635 milh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7440" y="170028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co                   Mudanças Climáticas                PNM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bjetivo Plano Nacional de Mudanças Climáticas (PNMC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ficiência dos setores da economi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ticipação fontes energia renová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ocombustível matriz transpor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ções intersetoriais para reduzir a vulnerabilidade das populaçõ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ções de ciência e tecnologia para diminuir impacto econômico de adaptação ex.: Plano Nacional de Combate a Desertificação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66690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9080" y="191628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1916280"/>
            <a:ext cx="1079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33440" y="3301560"/>
            <a:ext cx="1440" cy="29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33440" y="3807000"/>
            <a:ext cx="1440" cy="29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33440" y="4238280"/>
            <a:ext cx="1440" cy="29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33440" y="4743000"/>
            <a:ext cx="1440" cy="29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7667640" cy="1052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880" y="260280"/>
            <a:ext cx="820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Política Ambiental Brasilei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1600200"/>
            <a:ext cx="8201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matamento               Políticos                 PAS - O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Amazônia Sustentá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de Ação para Prevenção e Controle do Desmatamento – reduzir a perda líquida até 2015 evitando emissões 4,8 t dióxido de carbon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de Ação de Prevenção e Controle do Desmatamento e Queimadas no Cerrad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Nacional da Sociobiodiversidade e Manejo Florestal Comu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700280"/>
            <a:ext cx="1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184464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84464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7596360" cy="981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1619280"/>
            <a:ext cx="882036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DEIAS INICIA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Babaçu  e  Castanha do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Relevância socioeconomica e ambi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untas beneficiam 500 mil famílias entre quebradeiras de coco e extrativistas e geram aproximadamente R$ 160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ilhões/an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9280" y="1260360"/>
            <a:ext cx="504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BAÇ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060640"/>
            <a:ext cx="85075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18 milhões de hect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400.000 extrativistas envolvidos diretam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1.000.000 de pessoas envolvidas direta ou indiretament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incipais subprodutos: amêndoa/óleo, mesocarpo, azeite e carvã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2700360" cy="1800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776160"/>
            <a:ext cx="382752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1619280"/>
            <a:ext cx="8435880" cy="65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STANHA DO BRAS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 milhões de hec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 Est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4 Unidades de Conserv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4 Projetos de Assentamento Susten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ncipais Subprodutos: amêndoa e ó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948360" y="2519280"/>
            <a:ext cx="2195640" cy="4140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959280" y="5219640"/>
            <a:ext cx="197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1413000"/>
            <a:ext cx="882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lano para a Castanha do Brasil e  Babaç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2160720"/>
            <a:ext cx="8204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agnósticos Castanha e Babaç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laterais Castanha - AM, PA, AC, AP, RO e M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shop Castanha = C.S. + Plano de Ação Cadeia Castanha do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1413000"/>
            <a:ext cx="882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lano para a Castanha do Brasil e  Babaç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2160720"/>
            <a:ext cx="8204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laterais Babaçu – TO, PI, CE e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shop Babaçu = C.S. + Plano de Ação cadeia babaç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-19080" y="-71280"/>
            <a:ext cx="918216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1276200"/>
            <a:ext cx="8229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afios dos GTs Locais/AP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200" y="2392200"/>
            <a:ext cx="89298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ão da metodologia VLB local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gração entre os atores loca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lanejamento e execução de atividades concr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omento e capacitação das 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belecimento de parcerias com setor empresa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companhamento e avaliação pelas instituições parcei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ção, interação com a Câmara/Comissão Esta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00960" y="1500120"/>
            <a:ext cx="1571760" cy="785880"/>
          </a:xfrm>
          <a:prstGeom prst="leftRightArrow">
            <a:avLst>
              <a:gd name="adj1" fmla="val 50000"/>
              <a:gd name="adj2" fmla="val 70278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IC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5920" y="1574640"/>
            <a:ext cx="8883720" cy="5212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42920" y="104760"/>
            <a:ext cx="7353360" cy="824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4000"/>
            <a:ext cx="7715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xtrativismo Sustentável: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Políticas Públicas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01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680000" y="2843280"/>
            <a:ext cx="285840" cy="3929040"/>
          </a:xfrm>
          <a:custGeom>
            <a:avLst/>
            <a:gdLst>
              <a:gd name="textAreaLeft" fmla="*/ 360 w 285840"/>
              <a:gd name="textAreaRight" fmla="*/ 103680 w 285840"/>
              <a:gd name="textAreaTop" fmla="*/ 7200 h 3929040"/>
              <a:gd name="textAreaBottom" fmla="*/ 392184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"/>
                  <a:pt x="10800" y="131"/>
                </a:cubicBezTo>
                <a:lnTo>
                  <a:pt x="10800" y="3316"/>
                </a:lnTo>
                <a:cubicBezTo>
                  <a:pt x="10800" y="3382"/>
                  <a:pt x="16200" y="3447"/>
                  <a:pt x="21600" y="3447"/>
                </a:cubicBezTo>
                <a:cubicBezTo>
                  <a:pt x="16200" y="3447"/>
                  <a:pt x="10800" y="3513"/>
                  <a:pt x="10800" y="3578"/>
                </a:cubicBezTo>
                <a:lnTo>
                  <a:pt x="10800" y="21469"/>
                </a:lnTo>
                <a:cubicBezTo>
                  <a:pt x="10800" y="2153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10430" dir="722554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9640" y="1655640"/>
            <a:ext cx="2160720" cy="216072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1617840"/>
            <a:ext cx="2160720" cy="21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0000" y="4680000"/>
            <a:ext cx="2160360" cy="206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4680000"/>
            <a:ext cx="2160720" cy="19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7320" y="1655640"/>
            <a:ext cx="218268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egabiodiversidade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900000" y="1449360"/>
            <a:ext cx="7373880" cy="2179800"/>
            <a:chOff x="900000" y="1449360"/>
            <a:chExt cx="7373880" cy="21798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657520" y="1449360"/>
              <a:ext cx="3717720" cy="21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6445080" y="2522520"/>
              <a:ext cx="18259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6445080" y="1449360"/>
              <a:ext cx="182880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900000" y="1449360"/>
              <a:ext cx="169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900000" y="2638440"/>
              <a:ext cx="17193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900000" y="4680000"/>
            <a:ext cx="7371000" cy="1876320"/>
            <a:chOff x="900000" y="4680000"/>
            <a:chExt cx="7371000" cy="1876320"/>
          </a:xfrm>
        </p:grpSpPr>
        <p:pic>
          <p:nvPicPr>
            <p:cNvPr id="188" name="" descr=""/>
            <p:cNvPicPr/>
            <p:nvPr/>
          </p:nvPicPr>
          <p:blipFill>
            <a:blip r:embed="rId6"/>
            <a:stretch/>
          </p:blipFill>
          <p:spPr>
            <a:xfrm>
              <a:off x="5702400" y="4707000"/>
              <a:ext cx="256860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900000" y="4680000"/>
              <a:ext cx="291168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8"/>
            <a:stretch/>
          </p:blipFill>
          <p:spPr>
            <a:xfrm>
              <a:off x="3981600" y="4707000"/>
              <a:ext cx="1473120" cy="17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iversidade Sociocultural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16080" y="1484280"/>
            <a:ext cx="85960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5,2 milhões pessoas oriundas de Povos e Comunidades Tradicionais e Agricultores Familia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ingueir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tanheir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bradeiras de coco babaç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cadores artesana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beirinh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ntaneir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tingueiros, entre ou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7667640" cy="1052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26920" y="2587680"/>
            <a:ext cx="77058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s a sociedade civil: + 700 pesso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7 seminári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s ao setor empresari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ção com outros órgãos do Governo Fede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Lançamento do Plano Nacional (abril/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ria Interministerial Nº 239, de 21 de julho de 2009).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2057400"/>
            <a:ext cx="7775280" cy="4035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450800"/>
            <a:ext cx="5327640" cy="8956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  <a:ea typeface="Arial"/>
              </a:rPr>
              <a:t>Elabora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249228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envolver ações  integra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ara a promoção e fortalec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as cadeias de produ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a sociobiodivers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628640"/>
            <a:ext cx="4176720" cy="863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Objetivo Ge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7280" y="2131920"/>
            <a:ext cx="6480360" cy="4465800"/>
          </a:xfrm>
          <a:prstGeom prst="roundRect">
            <a:avLst>
              <a:gd name="adj" fmla="val 16667"/>
            </a:avLst>
          </a:prstGeom>
          <a:solidFill>
            <a:srgbClr val="ffcc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13000"/>
            <a:ext cx="6156000" cy="93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Produtos Sociobiodiversi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276640"/>
            <a:ext cx="5508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ens e serviços (produtos finais, matér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imas ou benefícios) gerados a partir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da biodiversidade, voltados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ormação de cadeias produtiva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esse dos povos e comun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radicionais e de agricultores familia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e promovam a manutenção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alorização de suas práticas e sabe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assegurem os direitos decorrent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erando renda e promovendo melh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 sua qualidade de vida e do ambie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 que viv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z Rebelatto</dc:creator>
  <dc:description/>
  <dc:language>en-US</dc:language>
  <cp:lastModifiedBy>Luiz &amp; Hetel</cp:lastModifiedBy>
  <dcterms:modified xsi:type="dcterms:W3CDTF">2010-02-21T22:58:28Z</dcterms:modified>
  <cp:revision>32</cp:revision>
  <dc:subject/>
  <dc:title>Plano Nacional para Promoção das Cadeias de Produtos da Sociobiodiversidade: Agregação de Valor e Consolidação de Mercados Sustent´v</dc:title>
</cp:coreProperties>
</file>